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8D1-9AF0-4F42-BEBD-5252B651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7A4-221E-4FB7-80C9-D8CEC09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2A907-AD72-425F-B53C-05913FE2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3F38C-12A0-4BA5-9299-47DB56C1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C831C-405B-4CF7-A3A3-D9D7C1C8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27102-9BAF-4422-B1E1-5B08E2B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63484-FF3F-4BB5-A91D-BE38F4D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36A9-B79E-4E31-BE3B-FDCDACB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E5AFE-EF69-46F4-B4C6-34691E86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A496E-4FA8-4806-B699-D5139E18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E76AA-7039-4319-A05A-8D5A42C5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0C596-F025-4036-8679-B25900B7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D3A-C02B-4AA0-A944-C2E3C9F6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33F9A-2679-4816-BEB6-4EB9EE32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625F0-2A39-424F-8742-C9E3DDCD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FF0C1-9004-4CEE-A0D7-412E740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E00E1-8C66-41C0-94EA-E7CDA51D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7A12D-76BB-41BC-A77F-844102CA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5C0D-846D-470F-8CA6-0A006DE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28E40-3C40-4975-9F67-21D09A0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F82E5-FB7C-446E-9322-F7A47A9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4B30C-5FFC-4981-B05A-B41F802E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A6FC1-E75B-466F-8D3E-B6D549B6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BCA-2465-45C0-8324-766D5F70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7867F-F217-4A4A-9960-B9736C38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42694-40AD-43B4-BD16-E76A9263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90D11-74CF-4A35-A732-7AF478D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93EF-975F-42AF-87AF-B03271B7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1C1CC-0104-4F8F-A450-318DFDC6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4DBE0-B9DB-4D3C-886A-749BE440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0836B-EB39-4C93-A24E-B0D844E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C54C-770E-4D85-910C-62162F7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7DF7A-E994-40D2-BBB6-0A0E869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52EF2-B362-48F4-8A5A-C263620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3745-F39B-476E-80BF-FA2B9E32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BB396-A28F-4B19-9B9D-EB73590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72466-54CD-4A71-9636-74B39C50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4E346-5B80-4BE9-BE4D-099D35DC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1B56-1286-469C-B2B5-F7FF5CA2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301DD-F570-44A2-B70C-C575EF23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012B5-29B9-4696-B3A3-9C1073D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AEF87-C3D4-4894-8BDA-0847B87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3983-E07F-4990-98BA-2FD0DCB2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0FBC0-D26D-45AE-B7B4-38EA3105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37F06-3497-4643-8C14-013690CF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43A1-E0C2-4039-B808-52DF915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969E6-9D13-4484-92EC-A6B6DA0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2731E-2A8F-4A55-90DF-B1D6552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941D5-7EC2-4DF3-89B0-521C16C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FEE7B-61EE-436B-888D-603A4E27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1D0C4-BDE6-4D95-9597-F4720984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70653-35D8-4B1C-84AA-4F71A904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1EE56-BE4F-43D7-B678-893A5CEE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13900-7EE3-4AFD-8F5C-36EA3697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13604-14E4-4AD1-ABAE-2843409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83AAC-7A0C-49FA-9562-5F1534E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BE11-0784-489E-A587-C2C7E2E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49CD6-CA2D-41D9-8B78-2AB2D5B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2670E-EA25-45FB-B245-024DA15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CC3B5-0C19-483E-8E43-472AA06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9D7EB-E3CD-451A-B48E-6FC54DF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410B9-D6BE-4265-AB86-48A506D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6C58E-4859-4488-93E4-29563379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462EE-29FB-4AF1-AB2F-43F8D4E9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7BE2E-0279-4453-94A8-982FF38B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FF0C7-C1CB-44C7-BB71-BC2712C9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ED3FC-7F5E-463A-A3FE-52E50293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5FA-E76E-42ED-B36D-2BDCEC9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1948E-C7CA-4A71-9032-9E477D9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B8EC7-5A45-4070-B7B4-E5ADBA2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F5728-A1D5-4397-9A63-C11605E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154D2-CB9C-42F6-BD9B-1D09D1D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53E2D-C271-4227-8642-A38AE02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7F370-E88E-4F13-9EBE-AEFE577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C6708-1295-45E7-8196-9447AD72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61394-E7EB-4C00-86A1-DA2C68DF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FF6DB-B473-4FF7-A81C-40C5F45E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CAD50-6000-49F5-A912-12D71F62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6C37-E8AF-4168-8A03-830A877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01354-FE50-4147-961B-63B6D56D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5F5B9-CF88-4A28-9DA1-4716EAAD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38DE2-7206-4C0E-8E01-9B954BC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1ADED-5050-4EBF-9DA4-E8522F5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202B2-60FC-4CCD-A2BC-C3A9431A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19008-73E6-450A-A666-1880661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1D0B7-1089-4FB5-B650-C48B066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E8D73-AC6A-48C4-9BFE-976D779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440D7-DBC0-4224-BF95-31777BF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B3A6D-B6D5-42A0-AAAD-FB82166F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67D-5860-47C1-9424-9BF8B1C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A4914-E2CA-4B6C-880C-E3FF79DA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D207B-80A1-4887-9A5C-42EE9B79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64173-77FB-40D9-B233-7498C51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EC7C3-BFDA-4BE8-9402-CF466275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BF211-9A04-4F7B-B4F3-14FCF60F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4398F-C82A-4C07-B980-7600A82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A0A2A-C2AD-40AB-A984-8C3378E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18250-9608-4802-BF60-58C6584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93DC2-E53B-4229-BE35-1C6F773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9FDCE-AF39-4ECF-9F57-3809C01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C3EF-E37E-43E7-8F43-5650393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5424B-E747-4333-9CBC-F33E14A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22ED7-EC63-4F48-90C9-0C04FFC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07EBE-B31F-4548-B654-70B352DA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9DCAE-CCB8-41FE-BE01-532907CE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F6FCE-C32E-4131-B161-9305F4F6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F5BB0-F0A7-4F4C-8CDA-4923B819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E96FE-628E-43CC-AECF-54EFD8D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6BFC6-19F1-4E3B-B743-309EF4F8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152FA-CD38-4244-968B-0D39D56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771B2-8EB8-4E40-B29B-6CA7B0B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EDF-662B-49C7-BC8F-0F0FA49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EFC-A0F7-4CAF-BF5C-63F56AC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08E81-89BC-42CF-AD14-BB2E060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8C3B3-0397-4AE8-85AA-4BA490F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5911B-DFD2-4969-B843-F40603A1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944F7-9CC4-43D5-B640-5623AC81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2E877-117C-4B7C-829F-D639FA99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2C17F-08B1-462D-AA31-D8A330F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CB50C-1E2B-4EF9-9B5E-B87F6789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6B915-613F-413F-B744-A0CD2C0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40295-1B46-44AA-AE7A-796604D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56D56-C67E-421E-94C2-6014F37E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CD5-9D36-4E60-9F99-51C808A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999B9-00C6-446F-A413-C0D6D3BC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86580-D58C-432F-B00B-4777719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AD850-5C59-44AE-B529-79CD507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58D63-3055-407A-A81F-DDD0639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85E4D-2093-4C5E-BA4D-A6DD74EA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EA80F-0299-4E0E-82EA-0047CCC5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1F29B-C265-4A44-9E34-EDFF0101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5BCA5-A2E5-4FA5-8C0E-051BBB94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74E96-FF85-4937-9589-6C47CEE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F8864-8D3F-4FBD-A5E0-FAAF3B3B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2D1-DC68-4377-AE64-8B328B5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93E17-3932-40EB-9A25-6A4E135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330C9-617D-4210-8F81-EBD1C0E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DA982-9149-4FDE-A04C-6E5C6FE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0F0CF-78EC-44B0-AB2B-2CAE441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44DCF-9AB9-410F-84BB-4087B0D6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2C034-61BB-4E43-BE61-8115CA7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4A342-3A4A-41A1-BBBF-2203ED3F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29869-57B8-4E97-94EA-1696BF7A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64E48-5BF9-46D6-95EB-20C63A1C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0967C-D276-4DC4-95B4-DE05AEB2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F62-D535-4603-B95B-AD00407D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5F30F-90D0-4139-89D3-C07E214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573FF-95D8-49F9-A6C7-CA37A8E4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0D420-38AB-4348-96FF-CC05897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26234-47C5-40C8-A074-5AFEEF6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9A326-E2B8-45C8-9D94-C78CCD95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7F926-55D2-45AB-9930-FBF388B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F9EE1-3134-4C36-AF7D-7157DC8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3AD31-0EE0-4B2C-BBAE-D5142B4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1A3DA-632D-4AB3-9B12-50C19473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AF17B-3C26-4224-A35E-5F635CCE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0F6-030A-4C13-9FC1-085DED6E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8F542-ADE8-41BB-B1A0-9146C9AE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87E0C-128C-4682-800F-0DB8D714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A0E7E-9D4B-41DF-BACF-C2A96C0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A4029-8F7A-4D7B-A29B-28A21086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1F9B4-CD2B-4652-AE9F-F0DCE23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2E2BE-A392-49DF-A79D-6D3CE13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FFA8D-A0A3-4118-B6B1-D530729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2B83F-F0BC-43EE-BAD0-D1D8716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FAE0A-359B-41FC-85A9-569B3DA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06A7C-CF83-4918-9410-38B15B8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289C-5F0F-4A88-92AB-0B3EA5CB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F4690-877D-481B-923A-47860B8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8C597-4136-4F0B-81BF-A93D4D10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44D20-91B7-4BD4-8F5A-BF07FE6D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E3BC-2F43-4D76-B7B5-01FEB9A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F8D2-29D6-4FEB-8469-8D93F567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FB46-C290-42BF-BC18-C3B2D20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2A9F-506B-40D7-91D2-DF30769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D23-DDE5-4C8F-AB4F-E805AD5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3906-585F-433A-817D-1C436118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382C-CCBC-4CB3-93B5-9F4345A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E492-758A-46FB-9130-6245DD8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CE43-9302-490D-9234-8CCFCB0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4151-E0F2-467B-82BD-35BDEAB4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BCBF-428D-4BE0-88CB-D0CDA4C5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F237-76D5-482E-8DE7-6AB6E5C7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2EFF-AC4B-45F0-8872-0D1676F7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57B9-4EED-4750-BEEB-6C1CC1E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F5F5-24F2-4FAF-A261-CA03FE37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702-53D1-4EFB-8758-FE0C186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DB02-04ED-413D-BA02-469B1881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8052-C019-4788-8479-1BEFD73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C05D-48D9-4C39-B5BC-5CD0E33B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7D99-245B-4610-9822-EC31251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4D4A-A84F-4CB8-AD99-D7438FE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2B39-A2F3-476C-96CA-CD0A06D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6C12-A69E-402B-B439-E0B7FF4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D7D2-9B30-463A-8745-20980F4A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A55C-7A78-40B2-9E61-A6DEE870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DBC0-6395-4DA3-9BF0-8CD970B9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616-8C99-4185-975E-3E60D84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132BB-615B-4FB9-BD6F-920A3EA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54FE-0979-46A0-89C9-22504CC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6B24-3F86-47D9-9B8C-51F383C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7541-8974-4B75-8D9A-E00DE7C9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C017-B614-42AB-B4F1-0A1CC39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1BE4-F603-4859-BA8E-5FC81AC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B53B-9EDF-44DE-9107-5FB4958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B274-4461-407C-8DE9-1A963AEA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57C4-D569-4C01-B46B-A80760C4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741A-9ED5-4979-A866-C9A15D63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AAE-2DBE-4617-80EC-7948BA1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6A2C-3FB4-456F-B370-D479580E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BD47-A6C0-410B-B495-47C0BDC6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1690-E3FB-419E-90D1-91AC97F8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DEF9-50E4-45E9-BDB0-8FDBC74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506C5-F11F-40CE-A709-080A0795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AA223-ECAF-4FDC-82A9-4EC83F6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E66C-73EC-4E29-BF16-82ECF0F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484F-D165-4595-988E-7640006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C3F9C-60F7-47A5-B3B2-82AF4EF3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5A579-8129-451C-B5AA-84F48B7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414-137F-44DB-9E1B-CEC4A46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8142-4C58-4FDB-BA1B-EBFE731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CC1E-9196-4985-9E0A-A3EBA147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2DB98-FBE0-4EE5-B97B-5E50E9B5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C439-5143-4F46-A71B-51093281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B887-14A7-45B9-91A3-D2FF6732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CC79-EE72-45FB-BE25-AF96DD9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E6C0-9FA5-453C-A7DE-AA8B50A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F321-66B0-46F5-A0DE-5D4A195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8B252-4142-44F3-B83F-34C765A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221DB-E34B-40D8-A330-0BD775B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9D5-EAEA-434D-92C8-193D3EB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009E1-19AC-4B27-B106-48A8EE2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36F7-5B4A-4E09-A5D6-C33F446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5CF2-A08D-4C8D-B5B5-2A058A6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A3FF-9346-4431-8AA7-0B8C5C95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4CA7-2549-4FB6-B8B1-65A80858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1B53-EB1E-4308-919E-7ACF8139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32DC4-BF9D-4D67-A1FC-9F40B074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E40B-5DA6-4BE0-95FF-003EEFA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8D16F-6EB3-4D57-8B19-E22FEF09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F93A6-3964-4F55-AB85-20D09D32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9C9-E9DB-429A-8F2C-D75BB48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D4D4D-27CA-40A7-9E5B-ECCD0FF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BB44-37B0-4776-AE65-A3D8374D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56861-2521-432C-A9C4-2C57944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B6D8E-3A39-413B-94AC-A8F06DB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E6461-AE4F-4589-8183-E29EA19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F5DA-1F1D-4EF5-AEC5-EEC2EDD9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AEF2-6115-4FAB-AA14-158DD60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2EE77-EE90-4B9F-94AD-387CB6C7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7007-D58B-46AE-90D0-3FB9429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919E5-720A-44CE-AA1C-E4C59E9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327-81EF-427A-B73C-A2E26E251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CD2-5ACB-4ED7-ADC9-4A33844B8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B4C-DB57-4B50-846C-02A8A290F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642-AC02-4322-A1B8-4CCDD695E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E0F-B18E-47BD-8535-13E54AD49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D8F-8B63-4F62-ACB7-B929F9228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903C-6A2D-4982-A31C-2A4615A4CF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909-C7C9-4367-BF8B-36F4122DE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2E8-7153-43AE-ACC9-8A0EC97AA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D4C-D9B1-41BD-BBB6-9DF5EBF01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727-0D15-42C1-9BBF-A00BEC5E8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E7A9-83F5-4F2D-A84D-74D412136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F3F3-74F2-44F8-B51D-29D0C4223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04E-9F94-4C1D-91FE-B5857EFFF1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34F-A4BE-4445-B772-6AF42C0FC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AB62-5DC0-48F6-89BE-4F9411394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C20-E235-4CEA-913C-E37D1C17D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D17D-1FD7-475D-98E6-3E1C07BAD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160A-3922-4C94-86DC-3B67EC69E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726-5478-4449-9294-610435E64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C3B0-6AA9-435C-BA8C-E4297815A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F7C-3437-4241-9149-AF929FE58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65A-3F93-43E0-9887-84A07A87E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99D-F592-48D3-89F9-E63204883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B68-AAF9-4941-89FA-C92793A4F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2E3-B3E0-40B5-B540-34FFE0543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DB41-DE4C-481A-AEE5-DF137A9C7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B8C-FC60-4365-A8DE-B770D428C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C92-FC71-40AF-87B2-9076053A6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9DC0-7DB3-4B85-A430-1746EB000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9E5-096C-4988-940E-94E2F385B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1B2B-071E-44BF-990B-65E453F97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90BE-E96B-46E0-896F-0B5AB5BA5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8A9-197D-4986-8077-8CC775021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6BA-5FC0-40E1-B45D-9F9D7E795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A4A6-7DE8-4EDC-90FA-3538DBCF3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854-A2F4-4E9F-8BA2-C483396DB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510-5639-430C-9E34-D777632A2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2B9B-F05B-47FE-BBE3-EFC0F7AA6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8D07-5AEF-4244-85EB-BC4255AD6B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71840" y="3195720"/>
            <a:ext cx="40003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1909800"/>
            <a:ext cx="8905680" cy="3038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3303720"/>
            <a:ext cx="863640" cy="301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330372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365436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5280" y="3962520"/>
            <a:ext cx="3240000" cy="301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4000" y="4302000"/>
            <a:ext cx="324000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24000" y="4653000"/>
            <a:ext cx="47527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23840" y="1386000"/>
            <a:ext cx="8896320" cy="4086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68360" y="17827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95280" y="243036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95280" y="3841920"/>
            <a:ext cx="2158920" cy="301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395280" y="415908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395280" y="4508640"/>
            <a:ext cx="2158920" cy="301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324000" y="48355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250920" y="5186520"/>
            <a:ext cx="410508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76040" y="947880"/>
            <a:ext cx="8791920" cy="49622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68360" y="261792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700360" y="263700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68360" y="2962440"/>
            <a:ext cx="2448000" cy="30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468360" y="328464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627280" y="3284640"/>
            <a:ext cx="2449440" cy="301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39640" y="3611520"/>
            <a:ext cx="3527640" cy="301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4356000" y="438480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5076720" y="515772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5076720" y="553572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8478720" y="25369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8469360" y="2924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8566200" y="3284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8566200" y="3716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5"/>
          <a:stretch/>
        </p:blipFill>
        <p:spPr>
          <a:xfrm>
            <a:off x="8575560" y="40957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6"/>
          <a:stretch/>
        </p:blipFill>
        <p:spPr>
          <a:xfrm>
            <a:off x="8578800" y="450864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7"/>
          <a:stretch/>
        </p:blipFill>
        <p:spPr>
          <a:xfrm>
            <a:off x="8556480" y="489744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8"/>
          <a:stretch/>
        </p:blipFill>
        <p:spPr>
          <a:xfrm>
            <a:off x="8566200" y="531972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19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